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326a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AEDED-F5CA-4236-9D8D-2C548BF10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59B1C-32BE-433D-9F9F-D7B2820BF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30CC8-A8EE-4B50-9B26-0BFA6F787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F57C4-C86E-46E9-AB59-9322BD245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8076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520" y="4395240"/>
            <a:ext cx="8076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3941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080" y="2286000"/>
            <a:ext cx="3941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4395240"/>
            <a:ext cx="3941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2080" y="4395240"/>
            <a:ext cx="3941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260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64480" y="2286000"/>
            <a:ext cx="260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5800" y="2286000"/>
            <a:ext cx="260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520" y="4395240"/>
            <a:ext cx="260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64480" y="4395240"/>
            <a:ext cx="260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5800" y="4395240"/>
            <a:ext cx="260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33520" y="2286000"/>
            <a:ext cx="807696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12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8076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3941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2080" y="2286000"/>
            <a:ext cx="3941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07696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12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3941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2080" y="2286000"/>
            <a:ext cx="3941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33520" y="4395240"/>
            <a:ext cx="3941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520" y="2286000"/>
            <a:ext cx="807696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12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3941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2080" y="2286000"/>
            <a:ext cx="3941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2080" y="4395240"/>
            <a:ext cx="3941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3941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080" y="2286000"/>
            <a:ext cx="3941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3520" y="4395240"/>
            <a:ext cx="8076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8076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3520" y="4395240"/>
            <a:ext cx="8076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3941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2080" y="2286000"/>
            <a:ext cx="3941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520" y="4395240"/>
            <a:ext cx="3941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2080" y="4395240"/>
            <a:ext cx="3941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260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64480" y="2286000"/>
            <a:ext cx="260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95800" y="2286000"/>
            <a:ext cx="260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33520" y="4395240"/>
            <a:ext cx="260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64480" y="4395240"/>
            <a:ext cx="260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95800" y="4395240"/>
            <a:ext cx="260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33520" y="2286000"/>
            <a:ext cx="807696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12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8076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3941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2080" y="2286000"/>
            <a:ext cx="3941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8076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07696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12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3941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2080" y="2286000"/>
            <a:ext cx="3941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33520" y="4395240"/>
            <a:ext cx="3941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3941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2080" y="2286000"/>
            <a:ext cx="3941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2080" y="4395240"/>
            <a:ext cx="3941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3941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2080" y="2286000"/>
            <a:ext cx="3941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33520" y="4395240"/>
            <a:ext cx="8076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8076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33520" y="4395240"/>
            <a:ext cx="8076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3941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2080" y="2286000"/>
            <a:ext cx="3941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33520" y="4395240"/>
            <a:ext cx="3941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2080" y="4395240"/>
            <a:ext cx="3941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260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64480" y="2286000"/>
            <a:ext cx="260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95800" y="2286000"/>
            <a:ext cx="260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33520" y="4395240"/>
            <a:ext cx="260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64480" y="4395240"/>
            <a:ext cx="260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995800" y="4395240"/>
            <a:ext cx="260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33520" y="2286000"/>
            <a:ext cx="807696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12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8076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3941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2080" y="2286000"/>
            <a:ext cx="3941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3941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2080" y="2286000"/>
            <a:ext cx="3941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07696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12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3941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2080" y="2286000"/>
            <a:ext cx="3941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33520" y="4395240"/>
            <a:ext cx="3941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3941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2080" y="2286000"/>
            <a:ext cx="3941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2080" y="4395240"/>
            <a:ext cx="3941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3941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2080" y="2286000"/>
            <a:ext cx="3941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33520" y="4395240"/>
            <a:ext cx="8076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8076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33520" y="4395240"/>
            <a:ext cx="8076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3941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2080" y="2286000"/>
            <a:ext cx="3941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3520" y="4395240"/>
            <a:ext cx="3941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2080" y="4395240"/>
            <a:ext cx="3941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260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64480" y="2286000"/>
            <a:ext cx="260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995800" y="2286000"/>
            <a:ext cx="260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33520" y="4395240"/>
            <a:ext cx="260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64480" y="4395240"/>
            <a:ext cx="260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995800" y="4395240"/>
            <a:ext cx="260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533520" y="2286000"/>
            <a:ext cx="807696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12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8076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3941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2080" y="2286000"/>
            <a:ext cx="3941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07696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12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3941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2080" y="2286000"/>
            <a:ext cx="3941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3520" y="4395240"/>
            <a:ext cx="3941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3941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2080" y="2286000"/>
            <a:ext cx="3941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2080" y="4395240"/>
            <a:ext cx="3941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3941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2080" y="2286000"/>
            <a:ext cx="3941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33520" y="4395240"/>
            <a:ext cx="8076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8076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33520" y="4395240"/>
            <a:ext cx="8076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3941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2080" y="2286000"/>
            <a:ext cx="3941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3520" y="4395240"/>
            <a:ext cx="3941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2080" y="4395240"/>
            <a:ext cx="3941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07696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12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260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64480" y="2286000"/>
            <a:ext cx="260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995800" y="2286000"/>
            <a:ext cx="260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533520" y="4395240"/>
            <a:ext cx="260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64480" y="4395240"/>
            <a:ext cx="260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5995800" y="4395240"/>
            <a:ext cx="260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3941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080" y="2286000"/>
            <a:ext cx="3941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520" y="4395240"/>
            <a:ext cx="3941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3941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2286000"/>
            <a:ext cx="3941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2080" y="4395240"/>
            <a:ext cx="3941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3941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2286000"/>
            <a:ext cx="3941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4395240"/>
            <a:ext cx="8076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Basic Slide"/>
          <p:cNvPicPr/>
          <p:nvPr/>
        </p:nvPicPr>
        <p:blipFill>
          <a:blip r:embed="rId2"/>
          <a:stretch/>
        </p:blipFill>
        <p:spPr>
          <a:xfrm>
            <a:off x="0" y="0"/>
            <a:ext cx="9159840" cy="6900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04760" y="144792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326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904760" y="2286000"/>
            <a:ext cx="6553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0"/>
          <p:cNvSpPr/>
          <p:nvPr/>
        </p:nvSpPr>
        <p:spPr>
          <a:xfrm>
            <a:off x="1817640" y="0"/>
            <a:ext cx="7478640" cy="914400"/>
          </a:xfrm>
          <a:prstGeom prst="rect">
            <a:avLst/>
          </a:prstGeom>
          <a:solidFill>
            <a:srgbClr val="637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2" descr="Contact Details"/>
          <p:cNvPicPr/>
          <p:nvPr/>
        </p:nvPicPr>
        <p:blipFill>
          <a:blip r:embed="rId2"/>
          <a:stretch/>
        </p:blipFill>
        <p:spPr>
          <a:xfrm>
            <a:off x="0" y="0"/>
            <a:ext cx="9159840" cy="69008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33360" y="289548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133360" y="3429000"/>
            <a:ext cx="655308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8" descr="Picture Slide"/>
          <p:cNvPicPr/>
          <p:nvPr/>
        </p:nvPicPr>
        <p:blipFill>
          <a:blip r:embed="rId2"/>
          <a:stretch/>
        </p:blipFill>
        <p:spPr>
          <a:xfrm>
            <a:off x="0" y="0"/>
            <a:ext cx="9159840" cy="69008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326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533520" y="2286000"/>
            <a:ext cx="8076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326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533520" y="2286000"/>
            <a:ext cx="8076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1" descr="Title Slide"/>
          <p:cNvPicPr/>
          <p:nvPr/>
        </p:nvPicPr>
        <p:blipFill>
          <a:blip r:embed="rId2"/>
          <a:stretch/>
        </p:blipFill>
        <p:spPr>
          <a:xfrm>
            <a:off x="0" y="0"/>
            <a:ext cx="9159840" cy="69008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04760" y="144792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326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1904760" y="2286000"/>
            <a:ext cx="6553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is.nsw.edu.au/" TargetMode="External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209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Languages Update!</a:t>
            </a:r>
            <a:endParaRPr b="1" lang="en-US" sz="34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22860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312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September 201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326a"/>
                </a:solidFill>
                <a:latin typeface="Arial"/>
              </a:rPr>
              <a:t>Australian Curriculum - Languages</a:t>
            </a: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533520" y="1980720"/>
            <a:ext cx="80769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n-April 20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 Shape Paper- Consul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ust 20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sed Shape Pa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Sept 20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dures and Guidelines document f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iculum wri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iculum writ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ge – Chinese, Itali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ge – French, German, Indonesian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panese, Korean, Span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ge – Arabic, Modern Greek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tnam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onal consul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1e326a"/>
                </a:solidFill>
                <a:latin typeface="Arial"/>
              </a:rPr>
              <a:t>Feedback</a:t>
            </a: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533520" y="2286000"/>
            <a:ext cx="8076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12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100" spc="-1" strike="noStrike">
                <a:solidFill>
                  <a:srgbClr val="000000"/>
                </a:solidFill>
                <a:latin typeface="Arial"/>
              </a:rPr>
              <a:t>Positiv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Paper provides a useful tool for promotion of language learning in school contex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Mandatory hours in Primary will raise profile of language learning in communit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Languages as a separate KL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Aims are clear and appropria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83808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1e326a"/>
                </a:solidFill>
                <a:latin typeface="Arial"/>
              </a:rPr>
              <a:t>Concerns:</a:t>
            </a: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331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atering for the 3 different categories of learners, particularly in K-6 and in some European 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eligibility criteria for the 3 groups of learners and who will be responsible for plac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continuity between primary and secondary if the original language is not offered in the local high 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taffing, resourcing and professional development needed to cater for mandatory primary and differentiation K-12 at 3 le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gap between the minimum and maximum hours (200hrs by Year 12) creates inequity at exam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1e326a"/>
                </a:solidFill>
                <a:latin typeface="Arial"/>
              </a:rPr>
              <a:t>More concerns:</a:t>
            </a: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52352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roposed 130-160hrs in Stage 5 is significantly less than current 200hrs in NS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lack of pathways for Beginners and Extension courses at senior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frequency of lessons is not addressed in this p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onfusion over the meaning of </a:t>
            </a: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Reciprocation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as one of the three organisational str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larification on the achievement levels is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ailoring of paper to modern languages rather than both classical and mod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academic and technical tone of the docu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1e326a"/>
                </a:solidFill>
                <a:latin typeface="Arial"/>
              </a:rPr>
              <a:t>Language grants 2012</a:t>
            </a: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2057040"/>
            <a:ext cx="80769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Open from end of Augu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Applications and guidelines: </a:t>
            </a:r>
            <a:r>
              <a:rPr b="0" lang="en-AU" sz="2100" spc="-1" strike="noStrike" u="sng">
                <a:solidFill>
                  <a:srgbClr val="4faf8a"/>
                </a:solidFill>
                <a:uFillTx/>
                <a:latin typeface="Arial"/>
                <a:hlinkClick r:id="rId1"/>
              </a:rPr>
              <a:t>www.ais.nsw.edu.a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Closing date 23 September 201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Two types of grant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- Schools Language Progra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- Languages in Ac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Max. $20,000 from Languages in Ac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326a"/>
                </a:solidFill>
                <a:latin typeface="Arial"/>
              </a:rPr>
              <a:t>Proposed Language grants for 2012</a:t>
            </a:r>
            <a:endParaRPr b="1" lang="en-US" sz="24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chools Language program (SL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100" spc="-1" strike="noStrike">
                <a:solidFill>
                  <a:srgbClr val="000000"/>
                </a:solidFill>
                <a:latin typeface="Arial"/>
              </a:rPr>
              <a:t>Languages in Action grant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Authentic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Beyond the Class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Collaborative Clu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Enabling El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In-country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Lifting Langu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Meaningful Men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Parental Polygl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Projects should:</a:t>
            </a:r>
            <a:br>
              <a:rPr sz="3200"/>
            </a:br>
            <a:endParaRPr b="1" lang="en-US" sz="32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533520" y="2286000"/>
            <a:ext cx="8076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Be manageable within 3 term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Be “owned” by all Languages staff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Target a specific Year group/Stage/idea/theme/outcome/skill/ne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Be implemented by as many of the Languages staff as possib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Be used as a means of promoting Languages within school communit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Provide an opportunity for collaboration and professional development for all Languages staff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1e326a"/>
                </a:solidFill>
                <a:latin typeface="Arial"/>
              </a:rPr>
              <a:t>AFMLTA conference - Darwin July 6-9 2011</a:t>
            </a: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33520" y="2057400"/>
            <a:ext cx="80769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Australian Curriculum focu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Position of Australian Languag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Inter-disciplinary approach to teaching Languages in Stage 4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Feedback in the Languages classroo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Digital game-based language learn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Translanguaging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6T02:20:03Z</dcterms:created>
  <dc:creator>janine</dc:creator>
  <dc:description/>
  <dc:language>en-US</dc:language>
  <cp:lastModifiedBy>Merryl</cp:lastModifiedBy>
  <dcterms:modified xsi:type="dcterms:W3CDTF">2011-09-04T23:48:32Z</dcterms:modified>
  <cp:revision>42</cp:revision>
  <dc:subject/>
  <dc:title>Slide 1</dc:title>
</cp:coreProperties>
</file>